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wmf" ContentType="image/x-wmf"/>
  <Override PartName="/ppt/media/image1.jpeg" ContentType="image/jpeg"/>
  <Override PartName="/ppt/media/image27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4.jpeg" ContentType="image/jpeg"/>
  <Override PartName="/ppt/media/image8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23.gif" ContentType="image/gif"/>
  <Override PartName="/ppt/media/image7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30.wmf" ContentType="image/x-wmf"/>
  <Override PartName="/ppt/media/image3.jpeg" ContentType="image/jpeg"/>
  <Override PartName="/ppt/media/image14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9.jpeg" ContentType="image/jpeg"/>
  <Override PartName="/ppt/media/image29.wmf" ContentType="image/x-wmf"/>
  <Override PartName="/ppt/media/image20.gif" ContentType="image/gif"/>
  <Override PartName="/ppt/media/image6.jpeg" ContentType="image/jpeg"/>
  <Override PartName="/ppt/media/image21.wmf" ContentType="image/x-wmf"/>
  <Override PartName="/ppt/media/image26.gif" ContentType="image/gif"/>
  <Override PartName="/ppt/media/image22.wmf" ContentType="image/x-wm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969-E21D-4A9F-BAE1-7799B2C6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1E5-B8AD-4AE7-B79C-FEEC8B16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223-DBE0-4718-9BA9-2A29850A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376D-7592-4238-AEAF-649EB594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F977-AC5D-4FB9-BE39-B97CDB80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C20-99B7-4D60-AB97-3FD4014D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814-33A2-4B2F-8B2B-45E81FC9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68A0-5AF3-41BE-BFEB-07CBABEA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A5F-9FA6-4BAD-A419-B4756C74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CCB-F733-45C6-8544-A58798C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E10-B562-4BE6-848A-9B1E20E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4CA-677E-470E-992A-E3BB8B20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4310-0B87-4ACE-AAA6-E6F81638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SeaWorld gebliebe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ein Buch ge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286000" cy="205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4647960" cy="369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in die Strasse spaz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89520" y="4132440"/>
            <a:ext cx="4254480" cy="27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3124080" cy="269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Flordia geflim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179532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895480" cy="266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31780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usic"/>
          <p:cNvSpPr/>
          <p:nvPr/>
        </p:nvSpPr>
        <p:spPr>
          <a:xfrm>
            <a:off x="5943600" y="2209680"/>
            <a:ext cx="2514600" cy="4114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52960" cy="192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090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gema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2353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318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hat mir gut gefalle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Florida gegang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Flor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Hote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ami besichtig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am See schwimmen gegang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8040" cy="376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69900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476440" cy="24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die Innenstadt fotograf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viel Sport gemacht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954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71296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Ich war im Museum gesehen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6:07Z</dcterms:created>
  <dc:creator>CUSD220</dc:creator>
  <dc:description/>
  <dc:language>en-US</dc:language>
  <cp:lastModifiedBy>Murphy</cp:lastModifiedBy>
  <dcterms:modified xsi:type="dcterms:W3CDTF">2011-11-20T22:06:37Z</dcterms:modified>
  <cp:revision>4</cp:revision>
  <dc:subject/>
  <dc:title>Ich war in Flordia!</dc:title>
</cp:coreProperties>
</file>